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C533-E772-4DD2-9864-CC218729A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3DD2-8A77-4F7B-BABD-3C28C23B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D220-EBB9-45FC-B143-821EC626C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2ACF-56B7-443F-AD2E-3BC659D38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FC0E-9543-4E6D-99D0-A331E4E1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7459-1540-4957-90EE-DF1042A6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B349-571D-4609-BB17-CF97112C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842E-26EA-47D9-B70B-047233AE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AA99-8705-4467-A1EB-3AE2124C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9C6E-91FE-4763-B803-49214CFD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CA57-EE23-4A52-8D16-705F5E66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D286-DB4C-4CCB-A83B-B83FFD3E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9812-66BE-456B-A118-1F8E5F2F89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18 French Rev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nnis Court Oa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4560" y="7617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Members of the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sta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 constitution written by the 3rd estate that declared their rights &amp; was against the inequalities of the old ord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8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e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state was locked out of their meeting place by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they met on a tennis court = claiming to represent the ppl of France, the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state declared themselves the National Assembly = the revolutionary gov’t that would start the Rev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til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Louis XVI; Parisi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 grim medieval fortress used as a prison for political and other priso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Paris,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8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arisian crowd demanded weapons &amp; gunpowder that they thought were stored in the prison; they killed the guards &amp; released the prisoners; it was a symbol of the abuse of the monarchy; the storming &amp; fall of Bastille = wake up call to king b.c. it was a challenge to his regime; today= French celebrate this as their independence 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.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Fre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dissenting groups of peop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8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ese groups competed to gain power; Moderates fought the Radicals who replaced the royal gov’t; these fights = whole neighborhoods into protest = furthers the revolution = some demanded end to monarchy, others no = complex Revolution- no one could agr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rquis de Lafayet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headed the National Guard &amp; the moderate dissenting group of the revolu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late 17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he led the Moderate faction group against the royals in the revolution; competed against the Radical grp (Paris Commune) for power of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ympe de Gou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Female journa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demanded equal rights for women in her “Declaration of the Rights of Women &amp; the Female citize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9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became one of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omen’s rights activists; later in the revolution, women met resistance 4 expressing their views in public = imprisoned &amp; execu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rie Antoinet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wife of King Louis XVI, queen of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she lived a life of great pleasure &amp; extravag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her extravagant living = put France in debt = the French disliked her; in the Women’s March to Versailles- the women captured Marie &amp; took her to Paris- she was eventually guillotined w. her husband for putting France into deb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ig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Nobles, Clergy, others who had fled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person who fled France from the Revolutionary forc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urope,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89-18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ese ppl fled to other European countries &amp; told stories about the revolution = made European absolute monarchs nervous that revolutions would occur in their countries al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ns-Culot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working class men &amp; w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“without breeches”; those that were working class that pushed the revolution into the radical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ey wore long trousers instead of the fancy knee britches that upper class men wore; this group demanded a republic (govt ruled by elected reps) instead of a mon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ubl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Sans-Culot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 govt that is ruled by elected representatives instead of a mon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9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e Sans-Culottes (the radicals) wanted this type of govt after the French Rev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cien Reg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Fre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old order; outdated social system where society was divided into 3 cl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8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e 3 estates (classes) were separated in this system- Clergy= enormous wealth &amp; privilege;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state didn’t  agree w. taxing = Enlightenment ideas that questioned inequalities = Revolution agnst the Ancien Regime &amp; overthrows the gov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acob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middle class lawyers or intellectu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 revolutionary political club that supported the Sans-culot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9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is group used newspapers &amp; pamplets to advance the republican cause; they were a radical faction that wanted a Republic, not a monarc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.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ffr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French revolutionary radic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the right to vo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17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after the execution of King Louis XVI, the radicals called for an election of a new legis. Body- Nat’l Convention; also called for suffrage for all male citizens, not just prop ow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bespier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Maximilien Robespierre, lawyer &amp; politici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leader of Committee of Public Safety, led the Reign of Terr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93-179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believed terror was necessary to achieve the goals of the revolution; he was eventually arrested &amp; executed himself= the end of Reign of Terr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ign of Terr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088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the Committee of Public Safety, Robespier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Revolutionary courts conducted hasty trials &amp; executed those who were suspect of resisting the rev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Sept 1793-July 179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00,000 ppl were arrested, 17,000 were executed by the Guillotine; many were victims of false identity &amp; falsely accused; radical part of the revolution= too radical= ended the reign &amp; started the moderate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uillot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Dr. Joseph Guillot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 more humane method of beheading than an ax w. a falling blade that extinguished life instant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93-179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is was the engine of terror for the Reign of Terror; quickly became a symbol of horr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tion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French revolution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 strong feeling of pride in and devotion to one’s country, spread throughout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Revolution &amp; war gave ppl a strong sense of national identity; sense of loyalty had shifted from monarch to the nation itself; the French attended festivals &amp; celebrated the nation &amp; rev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rseil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Fren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port 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9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roops marched through here with a nationalistic song- “La Marseillaise” which later became the French Natl an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poleon Bonapar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popular military hero, dictator of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overthrew the Directory &amp; set up 3 man Consulate; took the titl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sul then took the title Emperor &amp; became dictator of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99-18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(next slide- there’s a lo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olidated his power by strengthening the Central gov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tored economic prospe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led prices, encouraged new industry, built roads, canals; set up system of sch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de peace with the Catholic chu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n support across class l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couraged emigres to return; opened jobs to every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code of laws- Napoleonic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d a vast French Empi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Fre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divided social cl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under Ancien Regime everyone in France fell into 1 of 3 Estates: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Clergy;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Nobles;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everyone else (vast majority of po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.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ebisc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Napole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popular vote by ball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99-18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Napoleon held a plebiscite on each of his steps to power so he was popularly elected into power- he then took control as dictat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poleonic Co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Napole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one of Nap’s reforms; a code of laws that embodied Enlighten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01-18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one of Nap’s most lasting reforms; consolidated many changes of the revolution; ensured equality before the law, religious toleration, &amp; abolition of feudalism; women lost their newly gained rights &amp; couldn’t exercise rights of citize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n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Napole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incorporating lands into an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04-18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as part of his vast empire building, Nap annexed Netherlands, Belgium, parts of Italy &amp; Germany into France under his cont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inental Syst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Napole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 blockade system in Europe that shut off ports to keep ppl &amp; goods from moving in/ou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05-18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urope, Great Brit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Nap couldn’t invade GB successfully &amp; he wanted it in his empire so he waged economic warfare on the British through this system that closed European ports to British goods= War of 1812 w. Ame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uerrilla Warf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Spanish patrio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hit and run raids, means “little war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Spain vs.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in resisting Nap’s rule in Spain- Small bands of guerillas ambushed French supply trains/troops &amp; retreated to countryside; kept large numbers of French soldiers tied down in Spain while Nap needed them = encouraged Austria to resume fighting Fre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rched-earth poli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Napole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 war strategy where Russians retreated eastward, burning crops &amp; villages as they w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Rus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00-pres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is russian war defensive strategy left the French hungry &amp; cold when trying to invade Russia = French retreated &amp; could not invade Russia; this policy is used in WWI and WWII successfu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dic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Napole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step down from pow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Napoleon failed to take Russia = weakened France = he abdicated &amp; was exiled to Elba (an island in Meditearranean) = they brought back a 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gress of Vien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European diplomats &amp; heads of state; Klemens von Metterni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 meeting of leaders to discuss restoring stability &amp; order in Europe after Napole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Vienna, Austria,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Sept 1814-June 18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(on the next sli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nted to create a lasting peace by est. a balance of pwr &amp; protect monarc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ly Alliance” of christian monarchs to suppress future rev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rew the map of Europe- took land away from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nciple of Legitimacy- restored monarc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d Concert of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urgeois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Bankers, merchants, manufactur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the middle class, the wealthy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state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is group was the wealthiest of the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state; the inequalities they experienced from the other estates led this group to starting the rev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gitim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European monarc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fter the fall of Napoleon, the hereditary monarchies of Europe were restored to their thr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e Congress of Vienna restored the monarchs to their thrones to restore order to Europe; Louis VIII was king of France- time known as “Restoratio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rt of Eur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European ru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 system where the rulers would periodically meet to discuss any probs affecting the peace of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e Congress of Vienna created this alliance in order to ensure &amp; maintain peace throughout Europe; to avoid another Napoleon from taking over the whole contin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icit spe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Louis XVI &amp; Jacques Nec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when a gov’t spends more than it takes 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e king lived super fancy = the Govt borrowed more &amp; more $$; ½ the gov’t’s income from taxes went to paying interest on the enormous debt; the economics issues = social unrest &amp; heightened tension= Rev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uis XV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king of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pursued pleasure before serious gov’t matters = drove up deb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15-177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he was weak &amp; indecisive; lived extravagantly &amp; spent France’s $$, did not call on the Estates- General = made French MAD; his abuses = revolution; his was guillotined in the radical part of the rev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acques Neck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financial advisor to King Louis X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he urged the king to reduce extravagant spending, reform the govt, &amp; abolish burdensome tarriff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89-18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he proposed taxing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&amp;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state= nobles &amp; high clergy dismiss him; crisis worsened = pressure for reform mounted = rev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states-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Representatives of the 3 Est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the Legislative body consisting of reps from the 3 estates; King summons them for changes to be m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; 17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e King hadn’t called on them for 175 years b.c. he feared the nobles would take back power; E-G is mad = refuse to cooperate w. 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h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members from the 3 est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notebooks that listed their grievances to the 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8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ese complaints called for reforms such as fairer taxes, freedom of the press, regular mtgs of the Estates-General = these showed the boiling class resentments against the monarc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0T17:52:15Z</dcterms:created>
  <dc:creator>Nease High School</dc:creator>
  <dc:description/>
  <dc:language>en-US</dc:language>
  <cp:lastModifiedBy>Windows User</cp:lastModifiedBy>
  <dcterms:modified xsi:type="dcterms:W3CDTF">2013-02-01T19:16:42Z</dcterms:modified>
  <cp:revision>26</cp:revision>
  <dc:subject/>
  <dc:title>Slide 1</dc:title>
</cp:coreProperties>
</file>